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5.jpeg" ContentType="image/jpeg"/>
  <Override PartName="/ppt/media/image32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9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1.jpeg" ContentType="image/jpeg"/>
  <Override PartName="/ppt/media/image13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FB65-43AA-4046-8F94-5096ED6ED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70E8-FC53-4DFC-8CD0-3463C3712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E695-9F30-4841-916A-232053D4F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20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348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8892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20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348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40CF-E4E8-46EA-B2B8-437DA6B72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6C630-CA2C-41A6-9267-7BC2894CF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7DCB5-0C69-4672-A332-6A2E295C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20C34-1B63-4FF8-9767-D56FF4CDE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1E0ED-5A78-4E55-821F-0B7A02DFF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C2C71-22A7-49C7-8CCD-A358A7FA6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12720" y="582480"/>
            <a:ext cx="79185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B6B81-E130-4578-AD61-443F433FA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79B5C-5616-48F1-8460-E5920354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5636-5A28-4FB9-8DBC-7FA556761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B40F2-BF09-4B34-8FFF-6B40D483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7B8E0-0B18-487D-8C1A-F669853E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B718B-3B9A-46D8-AA80-3C4C263BA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08C4D-DDD9-480B-A693-9656AD828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120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348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8892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120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348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03D02-1F3E-4580-8278-6ED444D30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1C08-8819-44C4-A77E-182C8DBE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12720" y="582480"/>
            <a:ext cx="79185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4120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8348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98892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4120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8348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7403-8628-43B9-AF47-C11EFB43B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12720" y="582480"/>
            <a:ext cx="79185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4120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8348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98892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4120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58348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9CB59-32F1-475A-8A7C-A58D566AB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07AB-B98B-470F-8861-D7B2DF569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0C4B8-34C6-453A-AF9F-670023A71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F3DF0-2983-4BA5-B7F9-1415AC182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9CB52-4554-4E22-A897-76E0DFCB1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93534-26C2-4993-822F-84D42EDBD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12720" y="582480"/>
            <a:ext cx="79185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B8A1D-5B98-417B-9D20-62B34075C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0828B-79CB-4282-917B-35E5A20E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0D94D-31CF-475C-8D76-8D2D97A3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E0603-1F22-476E-8DB4-A2359464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53554-783C-46CE-8BD9-22790F827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212F1-EEFF-4D3C-9350-DF6B34623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12720" y="582480"/>
            <a:ext cx="79185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35BA-A20D-4D2B-8D4C-44F6DD818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4120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8348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98892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4120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8348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E6D01-AD6D-4DC6-A3EB-64A31CC38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54D3-6418-4C49-90BF-1170EE8A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20D6-641D-42D8-8126-954DDC8C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FDC2-EF82-40FF-A861-654A5ABA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550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035000" indent="-34920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336600">
              <a:spcBef>
                <a:spcPts val="550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1720800" indent="-34920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1720800" indent="-349200">
              <a:spcBef>
                <a:spcPts val="550"/>
              </a:spcBef>
              <a:buClr>
                <a:srgbClr val="fffff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1720800" indent="-349200">
              <a:spcBef>
                <a:spcPts val="550"/>
              </a:spcBef>
              <a:buClr>
                <a:srgbClr val="fffff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7552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8d9ab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8d9ab3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04640" y="6275520"/>
            <a:ext cx="564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275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8d9a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9749E8-367A-402C-8D3A-505758972669}" type="slidenum">
              <a:rPr b="0" lang="en-US" sz="1400" spc="-1" strike="noStrike">
                <a:solidFill>
                  <a:srgbClr val="8d9ab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550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035000" indent="-34920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336600">
              <a:spcBef>
                <a:spcPts val="550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1720800" indent="-34920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1720800" indent="-349200">
              <a:spcBef>
                <a:spcPts val="550"/>
              </a:spcBef>
              <a:buClr>
                <a:srgbClr val="fffff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1720800" indent="-349200">
              <a:spcBef>
                <a:spcPts val="550"/>
              </a:spcBef>
              <a:buClr>
                <a:srgbClr val="fffff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7552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8d9ab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8d9ab3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209680" y="6275520"/>
            <a:ext cx="563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076960" y="6275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8d9a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5685FC-7CF8-4EB5-86CE-E76201F26073}" type="slidenum">
              <a:rPr b="0" lang="en-US" sz="1400" spc="-1" strike="noStrike">
                <a:solidFill>
                  <a:srgbClr val="8d9ab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550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035000" indent="-34920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336600">
              <a:spcBef>
                <a:spcPts val="550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1720800" indent="-34920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1720800" indent="-349200">
              <a:spcBef>
                <a:spcPts val="550"/>
              </a:spcBef>
              <a:buClr>
                <a:srgbClr val="fffff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1720800" indent="-349200">
              <a:spcBef>
                <a:spcPts val="550"/>
              </a:spcBef>
              <a:buClr>
                <a:srgbClr val="fffff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550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035000" indent="-34920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336600">
              <a:spcBef>
                <a:spcPts val="550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1720800" indent="-34920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1720800" indent="-349200">
              <a:spcBef>
                <a:spcPts val="550"/>
              </a:spcBef>
              <a:buClr>
                <a:srgbClr val="fffff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1720800" indent="-349200">
              <a:spcBef>
                <a:spcPts val="550"/>
              </a:spcBef>
              <a:buClr>
                <a:srgbClr val="fffff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 flipH="1">
            <a:off x="4572720" y="1693800"/>
            <a:ext cx="19080" cy="4389480"/>
          </a:xfrm>
          <a:prstGeom prst="rect">
            <a:avLst/>
          </a:prstGeom>
          <a:gradFill rotWithShape="0">
            <a:gsLst>
              <a:gs pos="0">
                <a:srgbClr val="607090"/>
              </a:gs>
              <a:gs pos="100000">
                <a:srgbClr val="8d9ab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Rectangle 7"/>
          <p:cNvSpPr/>
          <p:nvPr/>
        </p:nvSpPr>
        <p:spPr>
          <a:xfrm flipH="1">
            <a:off x="4572720" y="1693800"/>
            <a:ext cx="19080" cy="4389480"/>
          </a:xfrm>
          <a:prstGeom prst="rect">
            <a:avLst/>
          </a:prstGeom>
          <a:gradFill rotWithShape="0">
            <a:gsLst>
              <a:gs pos="0">
                <a:srgbClr val="607090"/>
              </a:gs>
              <a:gs pos="100000">
                <a:srgbClr val="8d9ab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Rectangle 8"/>
          <p:cNvSpPr/>
          <p:nvPr/>
        </p:nvSpPr>
        <p:spPr>
          <a:xfrm flipH="1">
            <a:off x="4572720" y="1693800"/>
            <a:ext cx="19080" cy="4389480"/>
          </a:xfrm>
          <a:prstGeom prst="rect">
            <a:avLst/>
          </a:prstGeom>
          <a:gradFill rotWithShape="0">
            <a:gsLst>
              <a:gs pos="0">
                <a:srgbClr val="607090"/>
              </a:gs>
              <a:gs pos="100000">
                <a:srgbClr val="8d9ab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Rectangle 9"/>
          <p:cNvSpPr/>
          <p:nvPr/>
        </p:nvSpPr>
        <p:spPr>
          <a:xfrm flipH="1">
            <a:off x="4572720" y="1693800"/>
            <a:ext cx="19080" cy="4389480"/>
          </a:xfrm>
          <a:prstGeom prst="rect">
            <a:avLst/>
          </a:prstGeom>
          <a:gradFill rotWithShape="0">
            <a:gsLst>
              <a:gs pos="0">
                <a:srgbClr val="607090"/>
              </a:gs>
              <a:gs pos="100000">
                <a:srgbClr val="8d9ab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550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035000" indent="-34920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336600">
              <a:spcBef>
                <a:spcPts val="550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1720800" indent="-34920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1720800" indent="-349200">
              <a:spcBef>
                <a:spcPts val="550"/>
              </a:spcBef>
              <a:buClr>
                <a:srgbClr val="fffff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1720800" indent="-349200">
              <a:spcBef>
                <a:spcPts val="550"/>
              </a:spcBef>
              <a:buClr>
                <a:srgbClr val="fffff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7"/>
          </p:nvPr>
        </p:nvSpPr>
        <p:spPr>
          <a:xfrm>
            <a:off x="456840" y="627552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8d9ab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8d9ab3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8"/>
          </p:nvPr>
        </p:nvSpPr>
        <p:spPr>
          <a:xfrm>
            <a:off x="2204640" y="6275520"/>
            <a:ext cx="564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9"/>
          </p:nvPr>
        </p:nvSpPr>
        <p:spPr>
          <a:xfrm>
            <a:off x="8076960" y="6275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8d9a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85C1E0-081D-432F-834C-5636ABBFBED7}" type="slidenum">
              <a:rPr b="0" lang="en-US" sz="1400" spc="-1" strike="noStrike">
                <a:solidFill>
                  <a:srgbClr val="8d9ab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hyperlink" Target="http://microbewiki.kenyon.edu/index.php/Image:Malaria_blood.jpg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en.wikipedia.org/wiki/Image:Trypanosoma_sp._PHIL_613_lores.jpg" TargetMode="External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6000" y="739800"/>
            <a:ext cx="8513640" cy="27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10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8d9ab3"/>
                </a:solidFill>
                <a:latin typeface="Century Gothic"/>
              </a:rPr>
              <a:t>Protist</a:t>
            </a:r>
            <a:endParaRPr b="0" lang="en-US" sz="100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306000" y="3504960"/>
            <a:ext cx="4683240" cy="134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af03"/>
                </a:solidFill>
                <a:latin typeface="Century Gothic"/>
              </a:rPr>
              <a:t>General Biology</a:t>
            </a:r>
            <a:endParaRPr b="0" lang="en-US" sz="41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af03"/>
                </a:solidFill>
                <a:latin typeface="Century Gothic"/>
              </a:rPr>
              <a:t>Mr. Cobb</a:t>
            </a:r>
            <a:endParaRPr b="0" lang="en-US" sz="41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Paramecium Structure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hparamechighthumb.jpg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5" name="Picture 3" descr="Paramecium"/>
          <p:cNvPicPr/>
          <p:nvPr/>
        </p:nvPicPr>
        <p:blipFill>
          <a:blip r:embed="rId1"/>
          <a:stretch/>
        </p:blipFill>
        <p:spPr>
          <a:xfrm>
            <a:off x="228600" y="1600200"/>
            <a:ext cx="4838760" cy="42800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paramechighthumb.jpg"/>
          <p:cNvPicPr/>
          <p:nvPr/>
        </p:nvPicPr>
        <p:blipFill>
          <a:blip r:embed="rId2"/>
          <a:stretch/>
        </p:blipFill>
        <p:spPr>
          <a:xfrm>
            <a:off x="5307120" y="1828800"/>
            <a:ext cx="3836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Paramecium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pic>
        <p:nvPicPr>
          <p:cNvPr id="228" name="Content Placeholder 3" descr="Paramecium.jpg"/>
          <p:cNvPicPr/>
          <p:nvPr/>
        </p:nvPicPr>
        <p:blipFill>
          <a:blip r:embed="rId1"/>
          <a:srcRect l="-12699" t="0" r="-12699" b="0"/>
          <a:stretch/>
        </p:blipFill>
        <p:spPr>
          <a:xfrm>
            <a:off x="79200" y="1752480"/>
            <a:ext cx="8452080" cy="48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pic>
        <p:nvPicPr>
          <p:cNvPr id="230" name="Content Placeholder 3" descr="paramechighthumb.jpg"/>
          <p:cNvPicPr/>
          <p:nvPr/>
        </p:nvPicPr>
        <p:blipFill>
          <a:blip r:embed="rId1"/>
          <a:srcRect l="-42090" t="0" r="-42090" b="0"/>
          <a:stretch/>
        </p:blipFill>
        <p:spPr>
          <a:xfrm>
            <a:off x="-1219320" y="0"/>
            <a:ext cx="116380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Sporozoans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Do not move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Parasitic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Plasmodium – causes malaria in the Anopheles mosquito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33" name="Picture 3" descr="image13"/>
          <p:cNvPicPr/>
          <p:nvPr/>
        </p:nvPicPr>
        <p:blipFill>
          <a:blip r:embed="rId1"/>
          <a:stretch/>
        </p:blipFill>
        <p:spPr>
          <a:xfrm>
            <a:off x="6781680" y="3774960"/>
            <a:ext cx="2362320" cy="29098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image25"/>
          <p:cNvPicPr/>
          <p:nvPr/>
        </p:nvPicPr>
        <p:blipFill>
          <a:blip r:embed="rId2"/>
          <a:stretch/>
        </p:blipFill>
        <p:spPr>
          <a:xfrm>
            <a:off x="685800" y="4572000"/>
            <a:ext cx="1924200" cy="14191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Plasmodium in blood. Image from University of Tubinge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57600" y="3871800"/>
            <a:ext cx="2220840" cy="2254320"/>
          </a:xfrm>
          <a:prstGeom prst="rect">
            <a:avLst/>
          </a:prstGeom>
          <a:ln w="0">
            <a:noFill/>
          </a:ln>
        </p:spPr>
      </p:pic>
      <p:sp>
        <p:nvSpPr>
          <p:cNvPr id="236" name="TextBox 6"/>
          <p:cNvSpPr/>
          <p:nvPr/>
        </p:nvSpPr>
        <p:spPr>
          <a:xfrm>
            <a:off x="3334680" y="6130800"/>
            <a:ext cx="286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Ruptured Red blood cell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TextBox 7"/>
          <p:cNvSpPr/>
          <p:nvPr/>
        </p:nvSpPr>
        <p:spPr>
          <a:xfrm>
            <a:off x="7176960" y="640080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Life cycle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TextBox 8"/>
          <p:cNvSpPr/>
          <p:nvPr/>
        </p:nvSpPr>
        <p:spPr>
          <a:xfrm>
            <a:off x="553680" y="6130800"/>
            <a:ext cx="23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Anopheles Mosquito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Flagellates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Propel by one or more flagella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Known as Zooflagellates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ausing African Sleeping Sickness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41" name="Picture 3" descr="24099-004-EB15ADB7"/>
          <p:cNvPicPr/>
          <p:nvPr/>
        </p:nvPicPr>
        <p:blipFill>
          <a:blip r:embed="rId1"/>
          <a:stretch/>
        </p:blipFill>
        <p:spPr>
          <a:xfrm>
            <a:off x="458640" y="3936960"/>
            <a:ext cx="2524320" cy="14731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190px-Trypanosoma_sp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352680" y="3743280"/>
            <a:ext cx="3353040" cy="23828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clip_image001_0000"/>
          <p:cNvPicPr/>
          <p:nvPr/>
        </p:nvPicPr>
        <p:blipFill>
          <a:blip r:embed="rId4"/>
          <a:stretch/>
        </p:blipFill>
        <p:spPr>
          <a:xfrm>
            <a:off x="6858000" y="3763800"/>
            <a:ext cx="1828800" cy="1233720"/>
          </a:xfrm>
          <a:prstGeom prst="rect">
            <a:avLst/>
          </a:prstGeom>
          <a:ln w="0">
            <a:noFill/>
          </a:ln>
        </p:spPr>
      </p:pic>
      <p:sp>
        <p:nvSpPr>
          <p:cNvPr id="244" name="TextBox 6"/>
          <p:cNvSpPr/>
          <p:nvPr/>
        </p:nvSpPr>
        <p:spPr>
          <a:xfrm>
            <a:off x="1072800" y="541008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setse Fly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TextBox 7"/>
          <p:cNvSpPr/>
          <p:nvPr/>
        </p:nvSpPr>
        <p:spPr>
          <a:xfrm>
            <a:off x="4296600" y="6310440"/>
            <a:ext cx="15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rypansome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Algae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Unicellular or colonia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nd in all water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Primary food source for zooplankton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70% of photosynthesis on the plane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48" name="Picture 3" descr="hairalgae1.jpg"/>
          <p:cNvPicPr/>
          <p:nvPr/>
        </p:nvPicPr>
        <p:blipFill>
          <a:blip r:embed="rId1"/>
          <a:stretch/>
        </p:blipFill>
        <p:spPr>
          <a:xfrm>
            <a:off x="549360" y="4343400"/>
            <a:ext cx="3292560" cy="24685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algae in pool.jpg"/>
          <p:cNvPicPr/>
          <p:nvPr/>
        </p:nvPicPr>
        <p:blipFill>
          <a:blip r:embed="rId2"/>
          <a:stretch/>
        </p:blipFill>
        <p:spPr>
          <a:xfrm>
            <a:off x="5029200" y="4330800"/>
            <a:ext cx="321624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Algae Types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Euglena (algae with flagella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Green Algae (stuff on the boat and pool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Golden Alga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Diatoms (contain silica) (geometric shapes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Brown Alga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Red Alga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Dinoflagelletes ( contain 2 flagellas and cause red tides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pic>
        <p:nvPicPr>
          <p:cNvPr id="253" name="Content Placeholder 3" descr="PSALG.jpg"/>
          <p:cNvPicPr/>
          <p:nvPr/>
        </p:nvPicPr>
        <p:blipFill>
          <a:blip r:embed="rId1"/>
          <a:srcRect l="-74633" t="0" r="-74633" b="0"/>
          <a:stretch/>
        </p:blipFill>
        <p:spPr>
          <a:xfrm>
            <a:off x="-1447920" y="0"/>
            <a:ext cx="1197144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Algae samples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pic>
        <p:nvPicPr>
          <p:cNvPr id="255" name="Content Placeholder 3" descr="igb_alge2.jpg"/>
          <p:cNvPicPr/>
          <p:nvPr/>
        </p:nvPicPr>
        <p:blipFill>
          <a:blip r:embed="rId1"/>
          <a:srcRect l="-9244" t="0" r="-9244" b="0"/>
          <a:stretch/>
        </p:blipFill>
        <p:spPr>
          <a:xfrm>
            <a:off x="-152280" y="1401840"/>
            <a:ext cx="4724280" cy="25988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algae.jpg"/>
          <p:cNvPicPr/>
          <p:nvPr/>
        </p:nvPicPr>
        <p:blipFill>
          <a:blip r:embed="rId2"/>
          <a:stretch/>
        </p:blipFill>
        <p:spPr>
          <a:xfrm>
            <a:off x="4805280" y="1417680"/>
            <a:ext cx="3881520" cy="2583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hydrodiction.jpg"/>
          <p:cNvPicPr/>
          <p:nvPr/>
        </p:nvPicPr>
        <p:blipFill>
          <a:blip r:embed="rId3"/>
          <a:stretch/>
        </p:blipFill>
        <p:spPr>
          <a:xfrm>
            <a:off x="304920" y="4419720"/>
            <a:ext cx="3886200" cy="24382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volvox2.jpg"/>
          <p:cNvPicPr/>
          <p:nvPr/>
        </p:nvPicPr>
        <p:blipFill>
          <a:blip r:embed="rId4"/>
          <a:stretch/>
        </p:blipFill>
        <p:spPr>
          <a:xfrm>
            <a:off x="5110200" y="4267080"/>
            <a:ext cx="3576600" cy="24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Diatoms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pic>
        <p:nvPicPr>
          <p:cNvPr id="260" name="Content Placeholder 3" descr="purple-diatoms-527157-sw.jpg"/>
          <p:cNvPicPr/>
          <p:nvPr/>
        </p:nvPicPr>
        <p:blipFill>
          <a:blip r:embed="rId1"/>
          <a:srcRect l="-18184" t="0" r="-18184" b="0"/>
          <a:stretch/>
        </p:blipFill>
        <p:spPr>
          <a:xfrm>
            <a:off x="304920" y="141768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61" name="TextBox 4"/>
          <p:cNvSpPr/>
          <p:nvPr/>
        </p:nvSpPr>
        <p:spPr>
          <a:xfrm>
            <a:off x="3699360" y="6183360"/>
            <a:ext cx="184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Purple Diatom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General Characteristics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Eukaryotic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Microscopic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General “catchall” kingdom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Like the “junk” draw in the kitchen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Described as: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Animal-lik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Plant-lik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ungus-lik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Euglena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Algae with a flagella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64" name="Picture 3" descr="Euglena.jpg"/>
          <p:cNvPicPr/>
          <p:nvPr/>
        </p:nvPicPr>
        <p:blipFill>
          <a:blip r:embed="rId1"/>
          <a:stretch/>
        </p:blipFill>
        <p:spPr>
          <a:xfrm>
            <a:off x="2819520" y="3124080"/>
            <a:ext cx="474660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Diatoms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pic>
        <p:nvPicPr>
          <p:cNvPr id="266" name="Content Placeholder 3" descr="diatomclean.jpg"/>
          <p:cNvPicPr/>
          <p:nvPr/>
        </p:nvPicPr>
        <p:blipFill>
          <a:blip r:embed="rId1"/>
          <a:srcRect l="-13274" t="0" r="-13274" b="0"/>
          <a:stretch/>
        </p:blipFill>
        <p:spPr>
          <a:xfrm>
            <a:off x="-533520" y="2666880"/>
            <a:ext cx="5319720" cy="29257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" descr="diatoms-jj-001.jpg"/>
          <p:cNvPicPr/>
          <p:nvPr/>
        </p:nvPicPr>
        <p:blipFill>
          <a:blip r:embed="rId2"/>
          <a:stretch/>
        </p:blipFill>
        <p:spPr>
          <a:xfrm>
            <a:off x="4786200" y="2666880"/>
            <a:ext cx="394992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Diatom of Red Algae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pic>
        <p:nvPicPr>
          <p:cNvPr id="269" name="Content Placeholder 3" descr="diatoms of red algae.jpg"/>
          <p:cNvPicPr/>
          <p:nvPr/>
        </p:nvPicPr>
        <p:blipFill>
          <a:blip r:embed="rId1"/>
          <a:srcRect l="-12699" t="0" r="-12699" b="0"/>
          <a:stretch/>
        </p:blipFill>
        <p:spPr>
          <a:xfrm>
            <a:off x="988920" y="2044800"/>
            <a:ext cx="7166160" cy="40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Desmid (Algae)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pic>
        <p:nvPicPr>
          <p:cNvPr id="271" name="Content Placeholder 3" descr="desmid closterium.jpg"/>
          <p:cNvPicPr/>
          <p:nvPr/>
        </p:nvPicPr>
        <p:blipFill>
          <a:blip r:embed="rId1"/>
          <a:srcRect l="-12699" t="0" r="-12699" b="0"/>
          <a:stretch/>
        </p:blipFill>
        <p:spPr>
          <a:xfrm>
            <a:off x="988920" y="2044800"/>
            <a:ext cx="7166160" cy="40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af03"/>
                </a:solidFill>
                <a:latin typeface="Century Gothic"/>
              </a:rPr>
              <a:t>Dinoflagelletes causing red tides</a:t>
            </a:r>
            <a:endParaRPr b="0" lang="en-US" sz="3800" spc="-1" strike="noStrike">
              <a:solidFill>
                <a:srgbClr val="ffaf03"/>
              </a:solidFill>
              <a:latin typeface="Century Gothic"/>
            </a:endParaRPr>
          </a:p>
        </p:txBody>
      </p:sp>
      <p:pic>
        <p:nvPicPr>
          <p:cNvPr id="273" name="Content Placeholder 3" descr="red_tide_for_ed.jpg"/>
          <p:cNvPicPr/>
          <p:nvPr/>
        </p:nvPicPr>
        <p:blipFill>
          <a:blip r:embed="rId1"/>
          <a:srcRect l="-19852" t="0" r="-19852" b="0"/>
          <a:stretch/>
        </p:blipFill>
        <p:spPr>
          <a:xfrm>
            <a:off x="-990720" y="2438280"/>
            <a:ext cx="7167600" cy="40816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4" descr="20081110006redtide1.jpg"/>
          <p:cNvPicPr/>
          <p:nvPr/>
        </p:nvPicPr>
        <p:blipFill>
          <a:blip r:embed="rId2"/>
          <a:stretch/>
        </p:blipFill>
        <p:spPr>
          <a:xfrm>
            <a:off x="5143680" y="3181320"/>
            <a:ext cx="40003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Fungus-like Protist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Hetertrophic like Fungus but: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ellulose cell wal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Motil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wo types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035000" indent="-349200">
              <a:spcBef>
                <a:spcPts val="601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Watermold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035000" indent="-349200">
              <a:spcBef>
                <a:spcPts val="601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limemold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Watermolds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e “stuff” growing on dead fish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aused Potato bligh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79" name="Picture 3" descr="watermold fish.jpg"/>
          <p:cNvPicPr/>
          <p:nvPr/>
        </p:nvPicPr>
        <p:blipFill>
          <a:blip r:embed="rId1"/>
          <a:stretch/>
        </p:blipFill>
        <p:spPr>
          <a:xfrm>
            <a:off x="152280" y="3051000"/>
            <a:ext cx="4724640" cy="35434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4" descr="watermold potato.jpg"/>
          <p:cNvPicPr/>
          <p:nvPr/>
        </p:nvPicPr>
        <p:blipFill>
          <a:blip r:embed="rId2"/>
          <a:stretch/>
        </p:blipFill>
        <p:spPr>
          <a:xfrm>
            <a:off x="5257800" y="3352680"/>
            <a:ext cx="36925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Slimemolds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pic>
        <p:nvPicPr>
          <p:cNvPr id="282" name="Content Placeholder 3" descr="slimemold1.jpg"/>
          <p:cNvPicPr/>
          <p:nvPr/>
        </p:nvPicPr>
        <p:blipFill>
          <a:blip r:embed="rId1"/>
          <a:srcRect l="-11025" t="0" r="-11025" b="0"/>
          <a:stretch/>
        </p:blipFill>
        <p:spPr>
          <a:xfrm>
            <a:off x="0" y="1600200"/>
            <a:ext cx="4710240" cy="25909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4" descr="slimemold.jpg"/>
          <p:cNvPicPr/>
          <p:nvPr/>
        </p:nvPicPr>
        <p:blipFill>
          <a:blip r:embed="rId2"/>
          <a:stretch/>
        </p:blipFill>
        <p:spPr>
          <a:xfrm>
            <a:off x="4710240" y="3657600"/>
            <a:ext cx="415764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3 Types of Protists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Protozoan – animal-like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Algae – Plant-like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ungus - like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Protozoan characteristics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Microscopic and unicellular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Most are aquatic 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assified by locomotion (movement)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Sarcodina Phylum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Amoeba: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no body shape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Move slowly with a pseudopodium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Responds to stimuli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urrounds its food and engulfs i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3" name="Picture 3" descr="amoebalarge.jpg"/>
          <p:cNvPicPr/>
          <p:nvPr/>
        </p:nvPicPr>
        <p:blipFill>
          <a:blip r:embed="rId1"/>
          <a:stretch/>
        </p:blipFill>
        <p:spPr>
          <a:xfrm>
            <a:off x="4114800" y="1417680"/>
            <a:ext cx="351792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Amoeba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pic>
        <p:nvPicPr>
          <p:cNvPr id="215" name="Content Placeholder 3" descr="Amoeba_bw.gif"/>
          <p:cNvPicPr/>
          <p:nvPr/>
        </p:nvPicPr>
        <p:blipFill>
          <a:blip r:embed="rId1"/>
          <a:srcRect l="0" t="-4332" r="0" b="-4332"/>
          <a:stretch/>
        </p:blipFill>
        <p:spPr>
          <a:xfrm>
            <a:off x="988920" y="2044800"/>
            <a:ext cx="7166160" cy="40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Cilates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Paramecium: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Move by cilia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overed with cilia (little hairs for movement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Oral groove to take in foo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8" name="Picture 3" descr="Image155.gif"/>
          <p:cNvPicPr/>
          <p:nvPr/>
        </p:nvPicPr>
        <p:blipFill>
          <a:blip r:embed="rId1"/>
          <a:stretch/>
        </p:blipFill>
        <p:spPr>
          <a:xfrm>
            <a:off x="4724280" y="1600200"/>
            <a:ext cx="1903680" cy="28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Nassula Freshwater Ciliate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pic>
        <p:nvPicPr>
          <p:cNvPr id="220" name="Content Placeholder 3" descr="nassula fw ciliate.jpg"/>
          <p:cNvPicPr/>
          <p:nvPr/>
        </p:nvPicPr>
        <p:blipFill>
          <a:blip r:embed="rId1"/>
          <a:srcRect l="-8563" t="0" r="-8563" b="0"/>
          <a:stretch/>
        </p:blipFill>
        <p:spPr>
          <a:xfrm>
            <a:off x="988920" y="2044800"/>
            <a:ext cx="7166160" cy="40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Freshwater Ciliate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pic>
        <p:nvPicPr>
          <p:cNvPr id="222" name="Content Placeholder 3" descr="freshwater ciliate.jpg"/>
          <p:cNvPicPr/>
          <p:nvPr/>
        </p:nvPicPr>
        <p:blipFill>
          <a:blip r:embed="rId1"/>
          <a:srcRect l="-8563" t="0" r="-8563" b="0"/>
          <a:stretch/>
        </p:blipFill>
        <p:spPr>
          <a:xfrm>
            <a:off x="988920" y="2044800"/>
            <a:ext cx="7166160" cy="40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6T02:43:09Z</dcterms:created>
  <dc:creator>Jason Cobb</dc:creator>
  <dc:description/>
  <dc:language>en-US</dc:language>
  <cp:lastModifiedBy>jcobb</cp:lastModifiedBy>
  <dcterms:modified xsi:type="dcterms:W3CDTF">2012-04-19T14:34:00Z</dcterms:modified>
  <cp:revision>13</cp:revision>
  <dc:subject/>
  <dc:title>Protist</dc:title>
</cp:coreProperties>
</file>